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17D-A5FE-45F6-A303-AF1F2F37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E82-91CB-43E3-81EA-2BA67BA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30D32-8C10-4F2A-9F35-53E9E602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F350E-B687-4010-9F5C-7D36C352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D2709-71B4-4046-8883-F24A861A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0C0DC-DDF5-48F9-9BC9-120A4DA7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FCDDB-F4E0-44C4-A442-9B16BA4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96F02-A46D-4D61-B5C2-B6412F51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8ECC7-F711-43CA-BD6C-BA12F01C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3F9C-E46E-4D77-95EB-CF2AA6EB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189CB-BE8C-4C8B-989D-092BB47F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3E705-0186-4B25-B6DD-845A1AF2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668-7CE5-41F4-B904-56D9C941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7B02-B85E-4AF9-A5C7-BD551AE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91493-E0F1-4946-B1C0-E1E520E2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BB1A4-1871-454B-90F6-F15ACC3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311EC-95A8-4730-8AB3-F36D471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36097-031A-4C29-96DC-6486721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EECF4-BE8F-4E93-B9B7-3675672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52A24-47A0-43A3-9AB0-BC9A893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CD5D4-411C-4382-8405-C6790FE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5E63-B7DB-4BC8-BC61-74825786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05443-739D-4EFE-B3C2-289CD0E4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B59-592A-498F-8162-334E1E53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16B36-C545-438F-818C-606CFEA9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45463-3DF6-4B82-BA32-1526AA5E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E16BA-6AB9-47BA-BA7E-FEAF768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E9CB9-BCD5-44B6-897A-D8E74AB2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E9C1F-3A0D-4DEE-A589-4C11CEA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C0F1-EF1C-40E0-8755-7E10A0F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DA7BC-0374-4F7E-A811-F461E90B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1684F-8BF6-483D-869A-E309F65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3962E-7F60-444D-AC15-8DBC9C8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E715C-5DA8-4667-BB0F-357C975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C600-FFE3-4C74-A9AB-C87A9575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540DD-996B-4476-9032-9F95C26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5FE10-22A2-467C-8101-E94DCD22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386F1-95F4-44A2-8E58-D50BAB44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5C5D8-C5E7-4C23-B3FC-0C3727A9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1917E-48AF-4814-AE81-C0EA46A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FF561-CD68-447A-9131-DF08170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E4987-7FFF-46B8-8912-4B545DE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C34A9-52CF-4693-BE07-AE28A57A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664B7-96C9-4A55-A638-AE8E18EC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2743B-5B97-4379-833F-663C2B9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F062-89A8-4F6A-9A59-13A9212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2A3CB-2631-4EED-AA7D-9FA7860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4E2CA-3BA6-46CE-9122-B2257BE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F5BD6-2EC9-4B78-8536-2239F55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20084-B1B4-4F1C-A199-6E215A85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9759F-07DD-4A73-A5F7-1E6E4778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BC2B5-C007-4727-814F-6140EB51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43F88-0753-4F29-8FDD-93A1A5A2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DA324-E888-4700-8175-31DA1CC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0F98C-9219-4BB8-A21D-0D0A4F7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8A709-37A6-43B1-A8C4-3A974783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AB2-5A11-4630-ABBC-45E8DDB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E1C0B-2DE0-4A74-81E1-6B148D19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532E6-C4D8-43E8-9F10-73BE72C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FC449-62D4-4267-8127-9A1D25B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CFABC-0277-4B05-9DCC-614CD98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2D7BB-FEC3-489A-B9D9-A43B0357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3E55B-1952-45F5-B4FD-DD2C26AC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681E2-590E-402D-943A-D05E52E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72703-72A3-4E89-AA1C-AA733B2F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B1050-028E-4DD2-96D6-0C06142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49289-45B9-412F-A3DB-E5F27B5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C8C-01AD-4001-A2E9-84DC1C0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92D37-8F57-44D6-A341-19FD173E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52787-3F5E-4AF5-8480-DE648AA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9D2C2-FB8C-4D16-85ED-7C26CB0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3B90C-83AA-4716-B70A-ED7E1D8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8F4EA-95E3-400B-B233-676C2E2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F0A18-EA6E-4919-A8F8-59F5BF9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183AA-329F-420C-A62E-FCFDDF8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ED104-3553-4120-8F8E-654DAAA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7D6D6-F88B-4AF7-958C-B2CDF2A2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05CDF-0392-4183-9014-34CE986B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4CF8-2E5C-4A7B-9388-1DF97E2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CA5BE-FF2E-4469-8F44-E683A49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92B01-FD3F-48E8-A78A-A4AD0F1D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129C5-19F0-480C-82EB-425DEDFE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4DD55-A48D-4DE5-BD31-1D50EAC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D4284-F697-42A6-AAD9-8D3F8FCC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3080C-E7BA-40B6-9345-21518B4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C6E70-5F58-4EB2-8802-C38806F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82C7A-557C-4814-A4DE-FC52CC2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23F44-7392-4CEB-9273-79DF64C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94B29-4EC0-44FF-8779-16A05BA5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0094-0F13-4A06-8047-D3C8419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CF444-D91C-44AF-A3A1-EA1E26B6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CDFBE-2EE9-43DD-8157-8484A47A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6CAD2-8211-49F1-86E3-99BB88C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F9F6C-4666-466B-BA14-F301914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04C46-E3CF-4240-A77F-38D4C045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78D81-C8DD-4BA6-9CBD-6B1E351B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D7FF4-9A67-42F3-A733-72305F7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8964F-ADA0-4ABB-8F81-90087D0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2AFB1-F53B-42B0-8B63-E6997E0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26EFA-5FCE-452D-BF8E-E7E35DB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3FEF-0CE5-418A-9D5B-E832D44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0537E-3C77-4D6D-A3CB-75FD9076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D829A-AC35-4DF3-88AE-20BBF723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52F95-71F4-447A-AB89-609D294F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A3CEA-8703-4CEA-85DE-3F531DC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073C3-0327-4D8E-B926-33BA9A4A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DA98B-FF88-47CE-8CE4-67E88CA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6981F-C533-483E-91BB-FDC10F89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98F28-BB19-46CA-AA51-8D853384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0F142-F56D-45AA-B14A-B0C30B9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A38DF-FBF2-484C-9549-C10820A8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DB9-7CF7-4826-A7D3-E442986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570-591E-4411-8A60-9EDC3EDF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87762-54EA-43B2-9C2C-310D523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3274E-AF91-4D0E-9A7D-0A64698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AC436-B513-427D-8C91-4F2EFB8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2DF64-CD48-4159-800F-576EA233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0D2AE-F80D-4386-813F-344DA942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46A16-CC51-442B-9BA3-EED88A6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30975-07A2-4933-95B1-E8F63477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4629F-EA1A-4D45-9F7E-D77DB4F9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E37BA9-7443-4D87-9368-DBC6857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C03F3-99B8-46F2-B438-E940E6EB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07D-23DC-4785-B3A5-A861899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85699-5479-400F-A9A9-A0957D13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6D0A9-494E-4EDB-BD81-6F6D4C0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3CDC7-72AF-42FC-BA3C-2D1C89C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E46BB-B6E3-4F6A-B2AB-8338781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9D95C-8223-4E6E-BB06-885D454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8377B-0F8D-4E28-A827-81B6D78D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22336-7F28-424B-A09B-444CBDB2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7FB3B-F17A-4A01-BDD5-67C7EA7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C26DB-34CC-4F89-B0F8-8E3B321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BED9C9-5920-4DFA-8DB6-B5062D6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650-DC98-4689-A748-D82F3B5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E10E0A-199B-41E9-9549-1425F764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0480C-2425-4FFF-893F-9B5049E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C30B2-BD14-4966-AF93-402B5DD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24907-FA04-4179-90FB-72742DD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7076F6-A936-4EB4-A4DB-89E25D52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9AD01-EF05-4089-8223-8161923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AA7F3-90A2-41C0-980D-E4CCF10A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29DB8-9E20-47E1-A1D0-4C518D20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8CCC4-F049-4923-B542-F578EBA7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DC67E-1B97-4698-9C34-220E25DF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B94B-C298-40C8-9E3B-037E028C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970A7-7903-47FC-AE93-A670354C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CCD04-BBDB-4BF9-B91B-64D3966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75442-FA13-44EA-BAD4-5B824A5B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4FAB4-3318-4510-A2BF-B02C5C6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99886-91EE-45F7-87E0-AC5F9D99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243EC-7D5A-4F20-8029-BEB23DE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06B8C-7174-4373-8F02-34EDDFD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80044-8DCD-4792-9032-8B04B6D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4A81B-F688-4B74-87CD-AE0B8893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73B42-75F2-45BF-A44C-B6BF1081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1085-3582-4805-93FE-F446F1DF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29902-229F-4A21-BC6A-691E60D4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44549-405D-4B2A-949C-4974A495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926833-AB48-4855-A445-B0C065A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8E6EB-2720-42FF-B136-6BCDBB4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AB3A2-6B41-4DFA-8885-B8BA2D7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75E92-404C-470B-A6A7-B527949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9377B-AD80-485A-8959-C10E591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BC082-2618-4EA1-A7B1-24842DC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CB9FC-17D2-4B45-8D92-48D1F05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5C3D6-A45E-470E-873E-0BD88AC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7022-3CCF-4D4A-8B56-8B9C2515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7C651-6498-46BC-80C4-2E1209C4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C5995-9F54-4BAA-A3C3-90DFAAE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2D200-176F-4170-A097-C627EE7C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A5D86-9FB4-4FEE-8B94-92AF7FCB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9700A-B6E1-42B0-A78E-60A352D7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3C0AE5-71F0-4C63-BBE5-14F7A433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A6966-1B2E-46A5-8A8B-9E61C05C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56CA1-B80A-4EF8-9914-29A5362E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7E060-11AE-483C-802A-E95502A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EE7D1-A237-4D73-8EF6-12AE025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A2E5-868D-4CB2-90FB-B659D980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33D0D-0A67-48AB-9F05-3C1BD652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DB712A-0E80-4DA4-9175-529E408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6FFA91-EB0C-448C-A886-A035D8A7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2AB9D6-AD26-4274-ABEE-9281102A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F0AE4-F935-4944-BF51-FD7D539E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D665F-6F8F-4132-90D1-2118F97B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27E18B-BEC8-46FC-B0F7-B5938AF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CB3BC-8316-4120-80EF-696ADF49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C14AE-C4BF-464C-81BD-796B3CC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0EF6E-BB8C-4336-874F-258E856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6323-56A6-453D-BCFF-04183230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1E746D-9F95-45FC-A8CF-5F0C575F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C1C14-304C-4B4A-9E0E-A1189BF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2E2D4-9BC0-422E-8241-E123041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94710-2446-430C-8373-6A553AC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30F50-4B3B-4FB6-AF9C-411B8620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B5F3B6-D00E-4EAF-BED8-06BC9CB2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9BE64-630B-488E-BB39-2A1869A9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1115-30E0-403A-B78D-B58F373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BA2E-AF88-4D4D-9DCF-723427E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204-B589-4BA7-AECF-18596AF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8EF7-D029-439D-85CC-6117C629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DA78-3967-4565-A076-F8E7EC0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7E4E-9BEE-47F9-BC73-D159D17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F2CF-8AEA-49BF-A5E9-99E0318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3B4A-7887-4B60-8ACF-3BD8D2C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738D-BF7F-42A7-B01F-B29F2D8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5703-62AB-47BA-85D8-B689819D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564B-9DCC-41BC-8617-2379C037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D5E6-4D78-4CB8-9D33-104DD022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7EAD-1E6A-4C87-9162-3BD7967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F2C-0DDF-4531-8882-1FA55F2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D7769-A6CF-4FDA-96BE-9EB12BDA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905C-8529-46FD-9D6D-8FF4CD7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E048-D588-4138-853B-1B4E934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4167-E111-4EB3-AE8B-13C9110C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FCE5-68D3-4941-81ED-F5DAECB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EE5F-BC8F-425E-82FF-38916F4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3AA9-C4BF-4E53-BD66-73B32FF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CA4B-2033-45C4-AB5B-BF47B74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2341-C91A-4E8E-8844-D1EA9C1A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5188-729B-4FDF-B374-B0DC6CF3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5D4-EA17-465F-9861-2BCE7F67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6B17-66C5-4C3A-94C8-5DCD5961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A7B1-FE13-4EA1-8082-80C3BCF9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2C52-ADB9-4FFD-ADD7-785C669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9AF1F-712B-42E2-9789-C898386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56C5-AEBF-46F2-B0D6-33B6D292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281C-CA6B-4661-B584-00712B7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A0F8-D24B-412D-BC09-98EDD611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4517-0211-4F24-8AD3-2EBFE04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4111-D296-42B2-9CCD-2CD47BD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6712-13AA-4EAD-9D14-A2A95FCB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99A-8B55-4AEE-81FC-3DA3C42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CEBA-843E-437A-8570-648FC089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3FC6-C28E-483F-9C1B-687544AB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820A-19E2-48D0-87B9-0949923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F3B7-50A7-4478-9AE5-359100E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CC51-E919-4A7A-9F01-A140426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7BA7-7DCE-49D2-AB5E-91E92F3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2EAC-9D8D-4051-A06B-5A37CE4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51BA-8A88-4825-98AB-D50886B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23CA9-EA03-4B83-B57E-0823E25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4714-9DCE-465D-9931-AE9B0A5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F5B-EB97-4805-BFDC-C663756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0A482-DE55-4564-816E-AEEE985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13939-6228-457C-A0A4-0843A18F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39E6-AD3C-4992-959D-89095F6F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59972-CE65-4206-B113-AB5634B4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0CCD5-3A2F-4908-9886-19BBFED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BB308-352E-4092-B0E6-BE5158D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3F3B-2450-4993-A632-B911F11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C66F2-CEE4-4398-BEE1-4830CE75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C874-FC8E-4713-8464-957B3800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5D888-7F5A-4239-A089-DA19D43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F03-B6BD-4B7A-BD9C-C14A304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F8718-573E-4EF9-BE9C-1DDEF88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3633-2DF6-4AAE-BE26-54BD993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58EB-4723-4EA4-8171-C677A7C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D81A-394C-45CE-92F8-83327088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F5AB-2607-4FEC-BFBD-91169103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E7FB-7F1A-46B7-B1E0-98D635BD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9B71-78B3-4AEE-B0E6-C95B90D2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B71C7-AA59-4929-BA9E-0EF14C83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3EF82-F4C0-4C2A-A06D-7632AF9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9CE02-69F7-40E6-853F-736D025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2B5-8E26-40F8-9471-07237A7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2E149-C650-4B6A-963C-CEC6378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BCACF-C10D-43A0-936A-1E59D02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7EFE3-4F2F-43A6-A5D2-AC5ABCC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C0D7-25E1-4776-A990-E34BE44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721F9-BC92-491E-835B-F30D7097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730E-CEF8-4403-A22E-239FEE6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6F8F-C071-4EAE-AB57-AA7FE5EF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51274-DE86-41DE-AD36-D5E3FC27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EFB44-B38E-4EE9-969A-9B9318E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A71DF-94A1-49AE-9531-EF83EC2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63E-2014-472B-BF4A-14016C335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281-CA74-4B10-9BC8-5C0332F86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4170-B340-4165-90CE-E5A5BA7D0F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751-EEA5-408D-A1D1-477F49885C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A1F-A133-46AA-9CCC-CE40BF8A6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0DD8-E7C9-4DDC-803E-A679E601D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0187-5919-46CD-A4BD-761601C2B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8EE0-B98A-4ADB-947F-4B0F451B57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6E6-0800-4688-83CF-77CFE33D4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CD7-DB02-4FE2-8982-ECECD3B69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5E1-2FD0-4FF8-ABD6-D19124509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8889-BCFE-45D4-8C32-C66E00570C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AFE0-6D95-450C-868C-5BCFDA3F8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8C4-C73A-4E16-A862-099D79F9D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1386-0ABC-4566-AD61-48A1A13945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562D-60A9-435F-AD18-733D688CA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C5F-E2D2-42C9-B33C-8430A9935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A35-C303-467A-93A8-BB35E55C8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55E3-510A-44B6-8EFF-2A4A2DD83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55C-AB06-4B26-B80D-1BE37A04B3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9E6-0F9A-4904-A999-AEA6F89B83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FD60-D90E-4619-A9CB-453F2BE3B0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B9A-74AE-4CCF-ADE3-479B44439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193-0625-4666-A44C-96DB80A7E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D140-90CD-44A2-8251-800CB66A1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5F5-0F4F-49ED-9392-B20731185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0A7-1B80-4D94-8F9C-81A508314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080-815D-4D08-9FB9-6B7DF7164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099-B0BB-4ECB-9155-D5192DF41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E59-8F2E-4871-B5BF-0B76B4ECC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4ADC-6232-4A8C-893D-E81BAF16B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BC56-A676-462B-9B9E-BB3BBD8BA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B271-5A9C-4F9E-A745-31C9FE175B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4B52-5E82-43E2-A389-A87E610192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863-93E2-451E-A8C4-4816171E4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3E9-D82E-4312-B83F-4730B45F3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105-33E6-4D1E-B2B9-8A19F9B28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651-4B52-4E88-8988-7167B7637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BF8-EA91-40A1-9E5B-4FC2918C0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8D8-4C84-467B-9E24-6A902A63B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2E79-065C-4E37-95BF-59F42D985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C4F-734D-49C9-AEE7-8DD23C819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7960" y="2390760"/>
            <a:ext cx="8668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93680" y="787320"/>
            <a:ext cx="6905520" cy="23814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355760" y="3262320"/>
            <a:ext cx="6886440" cy="3333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281160" y="3673440"/>
            <a:ext cx="7656480" cy="3000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1197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611280" y="3716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611280" y="4724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539640" y="5661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00080" y="2085840"/>
            <a:ext cx="8942400" cy="2686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900000" y="24400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419640" y="243036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2700360" y="277164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2124000" y="3106800"/>
            <a:ext cx="151128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1476360" y="3429000"/>
            <a:ext cx="574560" cy="276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7"/>
          <a:stretch/>
        </p:blipFill>
        <p:spPr>
          <a:xfrm>
            <a:off x="2843280" y="342900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8"/>
          <a:stretch/>
        </p:blipFill>
        <p:spPr>
          <a:xfrm>
            <a:off x="1547640" y="377028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9"/>
          <a:stretch/>
        </p:blipFill>
        <p:spPr>
          <a:xfrm>
            <a:off x="2124000" y="4102200"/>
            <a:ext cx="144000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0"/>
          <a:stretch/>
        </p:blipFill>
        <p:spPr>
          <a:xfrm>
            <a:off x="1735200" y="4437000"/>
            <a:ext cx="1224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905040" y="1600200"/>
            <a:ext cx="7333920" cy="36576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1908000" y="2247840"/>
            <a:ext cx="208764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1332000" y="2911320"/>
            <a:ext cx="5032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2627280" y="291456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1403280" y="3573360"/>
            <a:ext cx="172872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4067280" y="3573360"/>
            <a:ext cx="86508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7"/>
          <a:stretch/>
        </p:blipFill>
        <p:spPr>
          <a:xfrm>
            <a:off x="1187280" y="4221000"/>
            <a:ext cx="1944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8"/>
          <a:stretch/>
        </p:blipFill>
        <p:spPr>
          <a:xfrm>
            <a:off x="3924360" y="4237200"/>
            <a:ext cx="1152360" cy="2905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9"/>
          <a:stretch/>
        </p:blipFill>
        <p:spPr>
          <a:xfrm>
            <a:off x="2771640" y="4916520"/>
            <a:ext cx="22320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343080" y="1476360"/>
            <a:ext cx="8458200" cy="39052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1476360" y="2124000"/>
            <a:ext cx="151128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2050920" y="2790720"/>
            <a:ext cx="288144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1763640" y="345744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3708360" y="344808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6"/>
          <a:stretch/>
        </p:blipFill>
        <p:spPr>
          <a:xfrm>
            <a:off x="2484360" y="412416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7"/>
          <a:stretch/>
        </p:blipFill>
        <p:spPr>
          <a:xfrm>
            <a:off x="4572000" y="4121280"/>
            <a:ext cx="1008000" cy="29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8"/>
          <a:stretch/>
        </p:blipFill>
        <p:spPr>
          <a:xfrm>
            <a:off x="6588000" y="413064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9"/>
          <a:stretch/>
        </p:blipFill>
        <p:spPr>
          <a:xfrm>
            <a:off x="2268360" y="478800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10"/>
          <a:stretch/>
        </p:blipFill>
        <p:spPr>
          <a:xfrm>
            <a:off x="5076720" y="4797360"/>
            <a:ext cx="180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0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